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F9C1-AB66-44E3-97D5-C04EAF261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ABA0-8541-46AE-94B4-8B7A0265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64CD-F070-44D5-8084-AF6B258F1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1100-D09A-4545-BA5F-FA99F71C4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F5824-42EF-4E44-BB7F-554B96B94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E52C1-9D93-47CC-B24C-F2828F65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A0329-300F-4CE9-B530-907EFA0D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003AB-9E01-4063-B121-B76EF666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EDCA2-1936-4862-9812-4CE4876E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DF865-2B39-41B1-AA30-0D7FDE3F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4605A-F8DA-4170-A2C0-B1E328D1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2531-4590-4A86-A52F-2ABFC149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7C6CB-E97F-4082-B607-2328809D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0656A-3F50-48E5-AAB4-3B20BEA4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87184-8413-4F19-8301-35D8FCCD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C1CB7-8056-40DD-8331-8477380B9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2AD98-D464-4E0A-B666-466C051D5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24D7-D581-445A-8443-AA5DA3E6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DD9C-9758-417A-A419-EE4E7025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C4AE-D4B3-409A-A39F-DAE3FC06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EAB0-23E5-4BB9-A6CD-C1E7B294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7F60-3FF4-4448-BB66-5414BAC2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1045-A359-4C3E-8ECB-9A2A58CA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2F91-C3E3-4411-8C2E-07B7338C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5CE1-8582-4634-A969-2A28B689C2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BAA5-20D2-4DA5-9073-2CCE28E1C6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teachingwithtlc.com/Teaching-with-TLC-Logo-2_no_words.gif&amp;imgrefurl=http://www.teachingwithtlc.com/Genderdifferences.html&amp;usg=__CeFagm5pmslcL0iYPUmDrCOIiJM=&amp;h=318&amp;w=284&amp;sz=10&amp;hl=en&amp;start=5&amp;tbnid=G3essISzQrxwyM:&amp;tbnh=118&amp;tbnw=105&amp;prev=/images%3Fq%3Dteaching%26gbv%3D2%26hl%3Den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4.jordan.k12.ut.us/teacher_resources/different/fish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rskazanjian.com/images/First%20Grade.gif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westville.k12.ok.us/Images/Faculty%2520Images/algebra.jpg&amp;imgrefurl=http://www.westville.k12.ok.us/Faculty/mcspadden/mcspadden.htm&amp;usg=__C9QY58CiCiB6cFOna2PSiowKedM=&amp;h=440&amp;w=650&amp;sz=23&amp;hl=en&amp;start=2&amp;tbnid=W6xvm139pajNYM:&amp;tbnh=93&amp;tbnw=137&amp;prev=/images%3Fq%3Dalgebra%26gbv%3D2%26hl%3Den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ecx.images-amazon.com/images/I/41FRWX7KE4L._SL500_AA240_.jpg&amp;imgrefurl=http://www.amazon.com/Using-Learning-Contracts-Individualizing-Structuring/dp/1555420168&amp;usg=__bdXjKPg9ewsf3nejJnVDMty5yV0=&amp;h=240&amp;w=240&amp;sz=12&amp;hl=en&amp;start=4&amp;tbnid=wZW74M1eP_6J1M:&amp;tbnh=110&amp;tbnw=110&amp;prev=/images%3Fq%3Dlearning%2Bcontracts%26gbv%3D2%26hl%3Den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frogbearbar.com/images/img_menus.jpg&amp;imgrefurl=http://www.frogbearbar.com/pages/lunchmenu.htm&amp;usg=__veD5qiQxw7QWzKB1MndtCLyQnKo=&amp;h=421&amp;w=350&amp;sz=64&amp;hl=en&amp;start=10&amp;tbnid=ICyeK0nXPgLI0M:&amp;tbnh=125&amp;tbnw=104&amp;prev=/images%3Fq%3Dmenus%26gbv%3D2%26hl%3Den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arm3.static.flickr.com/2295/1531777503_93a60e3188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hcbe.net/schools/phs/Administration/MDastous/images/7A172461FC1E4D34AF6A0E242604433D.jpg&amp;imgrefurl=http://www.hcbe.net/schools/phs/Administration/MDastous/teacher.html&amp;usg=__YheSyvPSXZHeM0h41VAT6Oj-JyM=&amp;h=858&amp;w=1281&amp;sz=341&amp;hl=en&amp;start=1&amp;tbnid=C1Wqhkgj8g0a_M:&amp;tbnh=100&amp;tbnw=150&amp;prev=/images%3Fq%3Ddifferentiated%2Binstruction%26gbv%3D2%26hl%3Den%26sa%3DX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eurodl.org/materials/contrib/1998/eden98/images/Mote.jpg&amp;imgrefurl=http://www.eurodl.org/materials/contrib/1998/eden98/Ljosa.html&amp;usg=__OtFogB9buRjAR3nkf9_gdzVYlwo=&amp;h=300&amp;w=420&amp;sz=12&amp;hl=en&amp;start=4&amp;tbnid=qOT3jlVkiaKCrM:&amp;tbnh=89&amp;tbnw=125&amp;prev=/images%3Fq%3Dteachers%2Brole%26gbv%3D2%26hl%3Den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-scf.usc.edu/~sfelicia/teachers%2520plaque.jpg&amp;imgrefurl=http://joseph89lch.blogspot.com/2007_08_01_archive.html&amp;usg=__VTHidrYgHxtocdtKZ4xEJKZS0Xg=&amp;h=619&amp;w=800&amp;sz=95&amp;hl=en&amp;start=2&amp;tbnid=8wUJsy_fbmq6AM:&amp;tbnh=111&amp;tbnw=143&amp;prev=/images%3Fq%3Dteachers%2Brole%26gbv%3D2%26hl%3Den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enrichingeinstein.com/index_files/image5061.jpg&amp;imgrefurl=http://enrichingeinstein.com/&amp;usg=__RnmADMh783ztXdNgGblRkjDye6o=&amp;h=425&amp;w=341&amp;sz=27&amp;hl=en&amp;start=10&amp;tbnid=VZadpN_TvbyrXM:&amp;tbnh=126&amp;tbnw=101&amp;prev=/images%3Fq%3Ddifferentiated%2Binstruction%26gbv%3D2%26hl%3Den%26sa%3DX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fferentiated Instructio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d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iering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Patrick Orus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rincipals of Differentiated Instru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 are pre-assessed to determine nee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 can work alone in pairs, groups, or individu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eacher must plan proactively to provide several learning op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eacher provides support as need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eacher must provide organization so learning is purposeful and not chaotic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inciples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continued)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tudent takes responsibility for his/her own learning and demonstrates understanding through a student designed project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eacher must give clear instructions and shares responsibility with the stud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ember, there is no right one way to differentiate, as long as the basic principles are getting through and being follow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4480" y="228600"/>
            <a:ext cx="182880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AMPL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2743200"/>
            <a:ext cx="2971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rst Grade Read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reate a flexible reading progra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st a weekly reading schedule and allow students to find their name on i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low students to move to appointed parts of the room at times designated on the cha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metimes the whole class will meet to listen to a story and talk about it or volunteer to read i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metimes a small group meets with the teacher to work on decoding, comprehension strategies, or to share ide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metimes students will meet with their peers to read on a topic with mutual interest regardless of their reading readin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udents can read books alone that fit their reading level (books will be color code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udents can meet with a reading partner to take turns reading (stronger student will help the weaker student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72200" y="380880"/>
            <a:ext cx="22860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igh School Algebr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s can pre-test and “compact-out” of a unit at any time during the first three days of instr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s who opt out do an independent investigation of math in the real world, given guidelines by the teacher, who works with them as need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s who did not opt out receive whole group instruction, and then based on understanding divide into cooperative groups for practice, or will meet in a small group with the teacher for pract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the class has finished the chapter everybody will meet for the mandatory two day review for the t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1320" y="304920"/>
            <a:ext cx="289548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iering Instru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nge the nature of the task, not the work lo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member to keep all students above water by adjusting challenge levels so all students can make sense of their learn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800600" y="4572000"/>
            <a:ext cx="37623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iering Forma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rning Contra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rning Men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b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mmarization Pyram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nge the Ver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arning Contrac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 enter into an independent study with an agreed upon set of tasks supporting the go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1480" y="4038480"/>
            <a:ext cx="304812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arning Menu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 are given choices of tasks in an unit for an assessment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must do one “entree” tas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lect two from “side dish” tas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do “dessert” for extra credit or enrich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77120" y="5105520"/>
            <a:ext cx="17524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ub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 will receive a foam or poster board made cube that has a different task on each side; having a different level for each fa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, given a topic, will then analyze it, describe it, compare it, associate it, apply it, and argue for or against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a teacher tries to teacher some thing new to the class at the same time, chances ar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third already know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third will learn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third will not get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 two thirds of the kids are wasting their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Scott Willis, ASCD Curriculum Update 1993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mmarization Pyrami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mmarization pyramids are very versat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come in many formats, have many possible sizes, and use many different promp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 a pyramid of horizontal lines, then ask students at different readiness levels to respond to the tiered prompts as they interact with the top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great prompts, not limited to use, ar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nonym, analogy, question, three attributes, cause and affect, reasons, arguments, opinion, insight, tools, sample, people, future of the top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ange the Verb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technique simply raises or lowers the level by changing the verb in your promp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alyz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cide betwe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comme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di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tras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stru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riti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f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erpr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assif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dentif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gue fo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gue again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43000" y="3886200"/>
            <a:ext cx="24382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me Tips To Remember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student need coherent lessons that are relevant, powerful, resourceful, and meaningfu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curriculum pushes students beyond what is comfortable and ea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ways offer encouragement to work up and go beyond their potenti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you know why you have been looking at the ocean during this present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981080" y="1981080"/>
            <a:ext cx="48769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ke being on the ocean when you differentiate one mu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d exactly where students are at before taking them some where ne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ganize your resou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just for varying degrees of dep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ort those who cant keep their heads above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dify strategy as you g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cognize that there are different ways to reach the same destin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 Learned…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tiering is and examples 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ifferentiating instruction is and how it is appli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it is important to differenti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things I have learned that I will be using in my classroom when I start teac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sourc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wope, Lisa.  Differentiated Instruction.  Radford City Schools.  Retrieved from www.rcps.org/RCPS/misc/Differentiated%20Instruction.ppt April 26, 2009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ormeli, Rick (2005) Summarization in any subject, ASCD, Alexandria, Virginia, p. 155-157.  retrieved from www.independence.k12.ia.us/public/summarization%20pyramid.rtf  April 26, 2009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486400" y="4572000"/>
            <a:ext cx="274320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y Differentiat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have different learning styles, skills, abilities, and strength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need to make sense of our 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rning occurs when the intimidation factor is miss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76920" y="4343400"/>
            <a:ext cx="29718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Teacher’s Ro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eacher must begin with the assumption that different learners have different nee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s a variety of ways to express learning thus “reaching out” to each chi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erials and resources must be organized to avoid confusion and cha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19920" y="304920"/>
            <a:ext cx="274320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y More Work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ers do not give more work to learners who are capable; instead the nature of the assignment is adjusted to fit the needs of that stud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vels of questio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vels of complex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s in tas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4038480"/>
            <a:ext cx="350496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Differentiat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gins with assess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 readiness level are determined b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 te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versations with the stud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st resul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est survey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4480" y="3352680"/>
            <a:ext cx="25146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tent Process and Produc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differentiating instruction, try to provide multiple routes to these three key ter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ent: what students actually lea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cess: how students go about making sense of ideas and in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duct: demonstration of what they learn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 is student center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 are given the opportunity to take increasing responsibility for their own grow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ing students to share responsibility allows a teacher to work with different groups or individuals for parts of the class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better prepares them for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fferentiation Blends Several Types of Instructio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le-class Instr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ividual Instr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exible group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operative/collaborative lear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181480" y="4648320"/>
            <a:ext cx="34290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17:51:23Z</dcterms:created>
  <dc:creator> </dc:creator>
  <dc:description/>
  <dc:language>en-US</dc:language>
  <cp:lastModifiedBy> </cp:lastModifiedBy>
  <dcterms:modified xsi:type="dcterms:W3CDTF">2009-04-28T19:22:40Z</dcterms:modified>
  <cp:revision>18</cp:revision>
  <dc:subject/>
  <dc:title>Slide 1</dc:title>
</cp:coreProperties>
</file>